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8E1C3-203F-4CFC-A68A-980F0F8741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4B44D-E5AF-472C-A190-F82828B601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06E48-7938-4C12-9CF3-94C3EFFF2F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84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84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B8F76-DF76-4906-9451-14184EDDDE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40220-2908-4A31-9292-BBB8F632D8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63815-23C9-4BDE-8C60-5B80CC627C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C2041-58E5-405B-B80E-B7064E4960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E77DE-56A7-4998-9488-8A34CDEE7F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65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7812C-DD20-495C-A193-94916117DF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82A8D-5B27-401E-B733-5B3F5DC12B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1C901-BB49-46EA-BC5A-7F83F10C6E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C9BF6-91C1-4D0E-B3D1-5479E65BEE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8986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15E6640-2624-4A3D-953C-A733F7788CF7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42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Verdana"/>
                </a:rPr>
                <a:t>La función de nutri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6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7"/>
            <p:cNvSpPr/>
            <p:nvPr/>
          </p:nvSpPr>
          <p:spPr>
            <a:xfrm>
              <a:off x="1828800" y="2666880"/>
              <a:ext cx="5697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008200"/>
                  </a:solidFill>
                  <a:latin typeface="Arial"/>
                </a:rPr>
                <a:t>LA FOTOSÍNTESIS EN </a:t>
              </a:r>
              <a:br>
                <a:rPr sz="2800"/>
              </a:br>
              <a:r>
                <a:rPr b="1" lang="es-ES" sz="2800" spc="-1" strike="noStrike">
                  <a:solidFill>
                    <a:srgbClr val="008200"/>
                  </a:solidFill>
                  <a:latin typeface="Arial"/>
                </a:rPr>
                <a:t>LOS CLOROPLAST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49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fotosíntesis en los cloroplast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3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Text Box 7"/>
          <p:cNvSpPr/>
          <p:nvPr/>
        </p:nvSpPr>
        <p:spPr>
          <a:xfrm>
            <a:off x="971640" y="80028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Defini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755640" y="1628640"/>
            <a:ext cx="7201080" cy="33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un  proceso propio de organismos autótrof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iste en la fabricación de hidratos de carbono a partir de materia inorgán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es excluyente con la respiración. Las plantas siguen respirando durante el día a la vez que realizan la fotosíntes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3214800" y="2232000"/>
            <a:ext cx="3085920" cy="334800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2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58" name="AutoShape 3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Text Box 4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Text Box 5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fotosíntesis en los cloroplast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Text Box 6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2" name="Picture 7" descr=""/>
            <p:cNvPicPr/>
            <p:nvPr/>
          </p:nvPicPr>
          <p:blipFill>
            <a:blip r:embed="rId2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Text Box 8"/>
          <p:cNvSpPr/>
          <p:nvPr/>
        </p:nvSpPr>
        <p:spPr>
          <a:xfrm>
            <a:off x="900000" y="765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¿Cómo es el proceso de fotosíntesi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971640" y="1276200"/>
            <a:ext cx="8028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proceso es el sigui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AutoShape 10"/>
          <p:cNvSpPr/>
          <p:nvPr/>
        </p:nvSpPr>
        <p:spPr>
          <a:xfrm rot="1140000">
            <a:off x="2787120" y="3417840"/>
            <a:ext cx="1716120" cy="380880"/>
          </a:xfrm>
          <a:prstGeom prst="rightArrow">
            <a:avLst>
              <a:gd name="adj1" fmla="val 50000"/>
              <a:gd name="adj2" fmla="val 112642"/>
            </a:avLst>
          </a:prstGeom>
          <a:solidFill>
            <a:srgbClr val="c5000b"/>
          </a:solidFill>
          <a:ln w="25200">
            <a:solidFill>
              <a:srgbClr val="ff95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AutoShape 11"/>
          <p:cNvSpPr/>
          <p:nvPr/>
        </p:nvSpPr>
        <p:spPr>
          <a:xfrm rot="1140000">
            <a:off x="5308200" y="4137120"/>
            <a:ext cx="1716120" cy="380880"/>
          </a:xfrm>
          <a:prstGeom prst="rightArrow">
            <a:avLst>
              <a:gd name="adj1" fmla="val 50000"/>
              <a:gd name="adj2" fmla="val 112642"/>
            </a:avLst>
          </a:prstGeom>
          <a:solidFill>
            <a:srgbClr val="0084d1"/>
          </a:solidFill>
          <a:ln w="25200">
            <a:solidFill>
              <a:srgbClr val="83ca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AutoShape 12"/>
          <p:cNvSpPr/>
          <p:nvPr/>
        </p:nvSpPr>
        <p:spPr>
          <a:xfrm rot="9360000">
            <a:off x="5196600" y="3177720"/>
            <a:ext cx="1716120" cy="381240"/>
          </a:xfrm>
          <a:prstGeom prst="rightArrow">
            <a:avLst>
              <a:gd name="adj1" fmla="val 50000"/>
              <a:gd name="adj2" fmla="val 112535"/>
            </a:avLst>
          </a:prstGeom>
          <a:solidFill>
            <a:srgbClr val="ffd320"/>
          </a:solidFill>
          <a:ln w="25200">
            <a:solidFill>
              <a:srgbClr val="ff95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AutoShape 13"/>
          <p:cNvSpPr/>
          <p:nvPr/>
        </p:nvSpPr>
        <p:spPr>
          <a:xfrm rot="9360000">
            <a:off x="2857320" y="4293720"/>
            <a:ext cx="1715760" cy="381240"/>
          </a:xfrm>
          <a:prstGeom prst="rightArrow">
            <a:avLst>
              <a:gd name="adj1" fmla="val 50000"/>
              <a:gd name="adj2" fmla="val 112512"/>
            </a:avLst>
          </a:prstGeom>
          <a:solidFill>
            <a:srgbClr val="ff950e"/>
          </a:solidFill>
          <a:ln w="25200">
            <a:solidFill>
              <a:srgbClr val="ffd3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AutoShape 14"/>
          <p:cNvSpPr/>
          <p:nvPr/>
        </p:nvSpPr>
        <p:spPr>
          <a:xfrm>
            <a:off x="971640" y="2851200"/>
            <a:ext cx="380880" cy="380880"/>
          </a:xfrm>
          <a:prstGeom prst="roundRect">
            <a:avLst>
              <a:gd name="adj" fmla="val 417"/>
            </a:avLst>
          </a:prstGeom>
          <a:solidFill>
            <a:srgbClr val="c50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AutoShape 15"/>
          <p:cNvSpPr/>
          <p:nvPr/>
        </p:nvSpPr>
        <p:spPr>
          <a:xfrm>
            <a:off x="6912000" y="2454120"/>
            <a:ext cx="380880" cy="381240"/>
          </a:xfrm>
          <a:custGeom>
            <a:avLst/>
            <a:gdLst>
              <a:gd name="textAreaLeft" fmla="*/ 360 w 380880"/>
              <a:gd name="textAreaRight" fmla="*/ 380520 w 380880"/>
              <a:gd name="textAreaTop" fmla="*/ 360 h 381240"/>
              <a:gd name="textAreaBottom" fmla="*/ 380880 h 381240"/>
            </a:gdLst>
            <a:ahLst/>
            <a:rect l="textAreaLeft" t="textAreaTop" r="textAreaRight" b="textAreaBottom"/>
            <a:pathLst>
              <a:path w="21600" h="21620">
                <a:moveTo>
                  <a:pt x="90" y="0"/>
                </a:moveTo>
                <a:arcTo wR="90" hR="90" stAng="16200000" swAng="-5400000"/>
                <a:lnTo>
                  <a:pt x="0" y="21530"/>
                </a:lnTo>
                <a:arcTo wR="90" hR="90" stAng="10800000" swAng="-5400000"/>
                <a:lnTo>
                  <a:pt x="21510" y="21620"/>
                </a:lnTo>
                <a:arcTo wR="90" hR="90" stAng="5400000" swAng="-5400000"/>
                <a:lnTo>
                  <a:pt x="21600" y="90"/>
                </a:lnTo>
                <a:arcTo wR="90" hR="90" stAng="0" swAng="-5400000"/>
                <a:close/>
              </a:path>
            </a:pathLst>
          </a:custGeom>
          <a:solidFill>
            <a:srgbClr val="ffd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AutoShape 16"/>
          <p:cNvSpPr/>
          <p:nvPr/>
        </p:nvSpPr>
        <p:spPr>
          <a:xfrm>
            <a:off x="6948360" y="4068720"/>
            <a:ext cx="381240" cy="380880"/>
          </a:xfrm>
          <a:prstGeom prst="roundRect">
            <a:avLst>
              <a:gd name="adj" fmla="val 417"/>
            </a:avLst>
          </a:prstGeom>
          <a:solidFill>
            <a:srgbClr val="008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AutoShape 17"/>
          <p:cNvSpPr/>
          <p:nvPr/>
        </p:nvSpPr>
        <p:spPr>
          <a:xfrm>
            <a:off x="431640" y="4327560"/>
            <a:ext cx="381240" cy="380880"/>
          </a:xfrm>
          <a:prstGeom prst="roundRect">
            <a:avLst>
              <a:gd name="adj" fmla="val 0"/>
            </a:avLst>
          </a:prstGeom>
          <a:solidFill>
            <a:srgbClr val="ff95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18"/>
          <p:cNvSpPr/>
          <p:nvPr/>
        </p:nvSpPr>
        <p:spPr>
          <a:xfrm>
            <a:off x="1330200" y="2887560"/>
            <a:ext cx="2519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legan CO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agu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19"/>
          <p:cNvSpPr/>
          <p:nvPr/>
        </p:nvSpPr>
        <p:spPr>
          <a:xfrm>
            <a:off x="7272360" y="2443320"/>
            <a:ext cx="169236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capta energí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20"/>
          <p:cNvSpPr/>
          <p:nvPr/>
        </p:nvSpPr>
        <p:spPr>
          <a:xfrm>
            <a:off x="7272360" y="4068720"/>
            <a:ext cx="18003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genera 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mo desech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812880" y="4327560"/>
            <a:ext cx="2340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fabrican hidratos de carbo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0:35:43Z</dcterms:created>
  <dc:creator>Carlos Martin</dc:creator>
  <dc:description/>
  <dc:language>en-US</dc:language>
  <cp:lastModifiedBy>jose luis</cp:lastModifiedBy>
  <dcterms:modified xsi:type="dcterms:W3CDTF">2012-10-04T16:28:38Z</dcterms:modified>
  <cp:revision>7</cp:revision>
  <dc:subject/>
  <dc:title>Presentación de PowerPoint</dc:title>
</cp:coreProperties>
</file>